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565-4CFB-44BC-8AD3-7E26F09D5A4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29D-0E54-4D88-90FF-7548778FF5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3EB-BB38-4206-BA2B-71F02E5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70B-97F3-4FC4-908C-A21AAFD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83D-4E3E-400B-9A0E-93117927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14B-D875-4EEA-9FA7-CFCA3473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B1D-7004-4A60-B9F4-6D0B3CFC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C35-B3D3-44DC-9EBF-ACFBB960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593-D7A6-4D71-8EAD-C034F38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BD3-72C9-44BE-A07C-F09FEE0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6ED-214E-4EEA-98C9-E5C3722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FEF-1430-48E8-8DB1-C93B52D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B71-EBDE-4DF2-B57D-65F9E02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FD3-E03A-44C3-9125-692E7BB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973-A2CC-430C-A03C-6088B5B936C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ILLA 7: Metabolismo de líp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Biosíntesis de ácidos grasos saturados. Regulación. Requerimiento energético. Elongación de ácidos grasos. Desaturación de ácidos grasos. Acidos grasos esenciales. </a:t>
            </a: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Biosíntesis de triglicér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fosfoglicéridos: precursores y enzimas. Metabolismo del colesterol. Regulación. Excre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58360" y="27936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489400" y="74916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504720" y="1243080"/>
            <a:ext cx="8134560" cy="5354640"/>
            <a:chOff x="504720" y="1243080"/>
            <a:chExt cx="8134560" cy="5354640"/>
          </a:xfrm>
        </p:grpSpPr>
        <p:grpSp>
          <p:nvGrpSpPr>
            <p:cNvPr id="102" name="Group 6"/>
            <p:cNvGrpSpPr/>
            <p:nvPr/>
          </p:nvGrpSpPr>
          <p:grpSpPr>
            <a:xfrm>
              <a:off x="504720" y="1243080"/>
              <a:ext cx="8134560" cy="5354640"/>
              <a:chOff x="504720" y="1243080"/>
              <a:chExt cx="8134560" cy="5354640"/>
            </a:xfrm>
          </p:grpSpPr>
          <p:pic>
            <p:nvPicPr>
              <p:cNvPr id="103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04720" y="1243080"/>
                <a:ext cx="8134560" cy="535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5"/>
              <p:cNvSpPr/>
              <p:nvPr/>
            </p:nvSpPr>
            <p:spPr>
              <a:xfrm>
                <a:off x="609480" y="1341360"/>
                <a:ext cx="713484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1B. Síntesis de fosfatidilcolina a partir de fosfatidiletanolamina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8"/>
            <p:cNvSpPr/>
            <p:nvPr/>
          </p:nvSpPr>
          <p:spPr>
            <a:xfrm>
              <a:off x="3426480" y="3471840"/>
              <a:ext cx="2261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66"/>
                  </a:solidFill>
                  <a:latin typeface="Arial"/>
                </a:rPr>
                <a:t>Fosfatidiletanol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66"/>
                  </a:solidFill>
                  <a:latin typeface="Arial"/>
                </a:rPr>
                <a:t>metil transf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53880" y="59040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porción lipídica en las membranas cel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os hepat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4788000" y="1484280"/>
            <a:ext cx="4200480" cy="5297040"/>
            <a:chOff x="4788000" y="1484280"/>
            <a:chExt cx="4200480" cy="529704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4788000" y="1634760"/>
              <a:ext cx="4200480" cy="51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5303520" y="1484280"/>
              <a:ext cx="80676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má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5134320" y="2204640"/>
              <a:ext cx="950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tocondr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9"/>
            <p:cNvSpPr/>
            <p:nvPr/>
          </p:nvSpPr>
          <p:spPr>
            <a:xfrm>
              <a:off x="5134320" y="2631960"/>
              <a:ext cx="950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tocondr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5280480" y="3101760"/>
              <a:ext cx="756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isoso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5549400" y="3533400"/>
              <a:ext cx="561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5316480" y="3966840"/>
              <a:ext cx="7718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 rug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5316480" y="4365360"/>
              <a:ext cx="792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 l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6" descr="hepatocito"/>
          <p:cNvPicPr/>
          <p:nvPr/>
        </p:nvPicPr>
        <p:blipFill>
          <a:blip r:embed="rId2"/>
          <a:stretch/>
        </p:blipFill>
        <p:spPr>
          <a:xfrm>
            <a:off x="324000" y="1600200"/>
            <a:ext cx="4752720" cy="3341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2843280" y="907920"/>
            <a:ext cx="381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11280" y="2149560"/>
            <a:ext cx="80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Aporte exógeno: dieta habitual 300 mg col./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Síntesis endógena: 1 g col./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~ 50% se sintetiza en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~ 50% se sintetiza en intestino, gónadas, glándulas suprarrenales, piel, músculo y tej.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2916360" y="765000"/>
            <a:ext cx="381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185080" cy="324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539640" y="530208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C negros derivan del grupo metilo del 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Los C rojos derivan del carboxilo del 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0-8"/>
          <p:cNvPicPr/>
          <p:nvPr/>
        </p:nvPicPr>
        <p:blipFill>
          <a:blip r:embed="rId1"/>
          <a:srcRect l="4222" t="10892" r="8443" b="7638"/>
          <a:stretch/>
        </p:blipFill>
        <p:spPr>
          <a:xfrm>
            <a:off x="1549440" y="1268280"/>
            <a:ext cx="597528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5" descr="10-9"/>
          <p:cNvPicPr/>
          <p:nvPr/>
        </p:nvPicPr>
        <p:blipFill>
          <a:blip r:embed="rId2"/>
          <a:stretch/>
        </p:blipFill>
        <p:spPr>
          <a:xfrm>
            <a:off x="5105520" y="3933720"/>
            <a:ext cx="3138480" cy="24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611280" y="30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ructura del </a:t>
            </a: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colesterol y su orientación en la bicapa lipidica de las membrana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fluid_mosiac"/>
          <p:cNvPicPr/>
          <p:nvPr/>
        </p:nvPicPr>
        <p:blipFill>
          <a:blip r:embed="rId3"/>
          <a:stretch/>
        </p:blipFill>
        <p:spPr>
          <a:xfrm>
            <a:off x="755640" y="3860640"/>
            <a:ext cx="4103640" cy="26416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619280" y="1312920"/>
            <a:ext cx="3278160" cy="487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376960" y="1693800"/>
            <a:ext cx="289692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331280" y="54936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iosíntesis de Colesterol (fases princip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0920" y="1504800"/>
            <a:ext cx="295272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1- Condensación de acetatos para formar mevalon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2724120"/>
            <a:ext cx="295272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2- Conversión de mevalonato en unidades de isopreno activ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79280" y="4235400"/>
            <a:ext cx="3024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3- Polimerización de las unidades de isopreno para dar lugar al escual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59280" y="3213000"/>
            <a:ext cx="20178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4- Ciclaci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ó</a:t>
            </a: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n del escualeno para dar lugar al Coleste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3"/>
          <p:cNvGrpSpPr/>
          <p:nvPr/>
        </p:nvGrpSpPr>
        <p:grpSpPr>
          <a:xfrm>
            <a:off x="2790720" y="579600"/>
            <a:ext cx="4910040" cy="6278400"/>
            <a:chOff x="2790720" y="579600"/>
            <a:chExt cx="4910040" cy="6278400"/>
          </a:xfrm>
        </p:grpSpPr>
        <p:pic>
          <p:nvPicPr>
            <p:cNvPr id="139" name="Picture 3" descr=""/>
            <p:cNvPicPr/>
            <p:nvPr/>
          </p:nvPicPr>
          <p:blipFill>
            <a:blip r:embed="rId1"/>
            <a:stretch/>
          </p:blipFill>
          <p:spPr>
            <a:xfrm>
              <a:off x="4356000" y="579600"/>
              <a:ext cx="3344760" cy="62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0"/>
            <p:cNvSpPr/>
            <p:nvPr/>
          </p:nvSpPr>
          <p:spPr>
            <a:xfrm>
              <a:off x="4186800" y="4941720"/>
              <a:ext cx="8924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HMG-Co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reduct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2790720" y="2565360"/>
              <a:ext cx="22226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Hidroxi Metil Glutaril-Co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(HMG-CoA)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4426560" y="1268280"/>
              <a:ext cx="614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Ti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2"/>
          <p:cNvSpPr/>
          <p:nvPr/>
        </p:nvSpPr>
        <p:spPr>
          <a:xfrm>
            <a:off x="5040" y="620640"/>
            <a:ext cx="382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iosíntesis de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(fase limita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4000" y="1557360"/>
            <a:ext cx="3240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Comic Sans MS"/>
              </a:rPr>
              <a:t>1- Condensación de acetatos para formar mevalo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340640" y="4005360"/>
            <a:ext cx="3807360" cy="1438920"/>
            <a:chOff x="1340640" y="4005360"/>
            <a:chExt cx="3807360" cy="1438920"/>
          </a:xfrm>
        </p:grpSpPr>
        <p:sp>
          <p:nvSpPr>
            <p:cNvPr id="146" name="Oval 5"/>
            <p:cNvSpPr/>
            <p:nvPr/>
          </p:nvSpPr>
          <p:spPr>
            <a:xfrm>
              <a:off x="4032360" y="4766760"/>
              <a:ext cx="1115640" cy="677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519640" y="4429080"/>
              <a:ext cx="1512720" cy="59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1340640" y="4005360"/>
              <a:ext cx="199440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nzima regulad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14"/>
          <p:cNvSpPr/>
          <p:nvPr/>
        </p:nvSpPr>
        <p:spPr>
          <a:xfrm>
            <a:off x="4213080" y="1557360"/>
            <a:ext cx="79236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4932360" y="1557360"/>
            <a:ext cx="79200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6"/>
          <p:cNvSpPr/>
          <p:nvPr/>
        </p:nvSpPr>
        <p:spPr>
          <a:xfrm flipH="1" flipV="1">
            <a:off x="4860360" y="2059920"/>
            <a:ext cx="50292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572000" y="5661000"/>
            <a:ext cx="1009800" cy="119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4789440" y="4149720"/>
            <a:ext cx="79236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932360" y="6597720"/>
            <a:ext cx="792000" cy="260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516720" y="4437000"/>
            <a:ext cx="2196360" cy="1015920"/>
            <a:chOff x="6516720" y="4437000"/>
            <a:chExt cx="2196360" cy="1015920"/>
          </a:xfrm>
        </p:grpSpPr>
        <p:sp>
          <p:nvSpPr>
            <p:cNvPr id="156" name="Line 22"/>
            <p:cNvSpPr/>
            <p:nvPr/>
          </p:nvSpPr>
          <p:spPr>
            <a:xfrm>
              <a:off x="6516720" y="4437000"/>
              <a:ext cx="8636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644160" y="5084640"/>
              <a:ext cx="20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Rounded MT Bold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5"/>
          <p:cNvSpPr/>
          <p:nvPr/>
        </p:nvSpPr>
        <p:spPr>
          <a:xfrm>
            <a:off x="395280" y="2852640"/>
            <a:ext cx="3529080" cy="1015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esfosforilada-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2"/>
          <p:cNvGrpSpPr/>
          <p:nvPr/>
        </p:nvGrpSpPr>
        <p:grpSpPr>
          <a:xfrm>
            <a:off x="3843000" y="1452240"/>
            <a:ext cx="2251440" cy="1329120"/>
            <a:chOff x="3843000" y="1452240"/>
            <a:chExt cx="2251440" cy="1329120"/>
          </a:xfrm>
        </p:grpSpPr>
        <p:sp>
          <p:nvSpPr>
            <p:cNvPr id="162" name="Línea 8"/>
            <p:cNvSpPr/>
            <p:nvPr/>
          </p:nvSpPr>
          <p:spPr>
            <a:xfrm flipV="1">
              <a:off x="3995640" y="1990800"/>
              <a:ext cx="2098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Elipse 9"/>
            <p:cNvSpPr/>
            <p:nvPr/>
          </p:nvSpPr>
          <p:spPr>
            <a:xfrm rot="20354400">
              <a:off x="3912840" y="1699920"/>
              <a:ext cx="1522440" cy="674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Alosté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uadro de texto 11"/>
          <p:cNvSpPr/>
          <p:nvPr/>
        </p:nvSpPr>
        <p:spPr>
          <a:xfrm>
            <a:off x="6238800" y="1125360"/>
            <a:ext cx="237672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Á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12"/>
          <p:cNvSpPr/>
          <p:nvPr/>
        </p:nvSpPr>
        <p:spPr>
          <a:xfrm>
            <a:off x="6238800" y="227664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lipse 13"/>
          <p:cNvSpPr/>
          <p:nvPr/>
        </p:nvSpPr>
        <p:spPr>
          <a:xfrm>
            <a:off x="5364000" y="1411200"/>
            <a:ext cx="792360" cy="50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4067280" y="3533040"/>
            <a:ext cx="2881080" cy="1480320"/>
            <a:chOff x="4067280" y="3533040"/>
            <a:chExt cx="2881080" cy="1480320"/>
          </a:xfrm>
        </p:grpSpPr>
        <p:sp>
          <p:nvSpPr>
            <p:cNvPr id="168" name="Línea 6"/>
            <p:cNvSpPr/>
            <p:nvPr/>
          </p:nvSpPr>
          <p:spPr>
            <a:xfrm>
              <a:off x="4067280" y="4005360"/>
              <a:ext cx="2881080" cy="1008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Elipse 7"/>
            <p:cNvSpPr/>
            <p:nvPr/>
          </p:nvSpPr>
          <p:spPr>
            <a:xfrm rot="1300200">
              <a:off x="4716000" y="3789000"/>
              <a:ext cx="151128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Coval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Elipse 10"/>
          <p:cNvSpPr/>
          <p:nvPr/>
        </p:nvSpPr>
        <p:spPr>
          <a:xfrm>
            <a:off x="5938920" y="49561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e 14"/>
          <p:cNvSpPr/>
          <p:nvPr/>
        </p:nvSpPr>
        <p:spPr>
          <a:xfrm>
            <a:off x="6299280" y="430848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 de texto 15"/>
          <p:cNvSpPr/>
          <p:nvPr/>
        </p:nvSpPr>
        <p:spPr>
          <a:xfrm>
            <a:off x="7236000" y="4451400"/>
            <a:ext cx="129672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 de texto 16"/>
          <p:cNvSpPr/>
          <p:nvPr/>
        </p:nvSpPr>
        <p:spPr>
          <a:xfrm>
            <a:off x="6875640" y="5100480"/>
            <a:ext cx="15840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ipse 18"/>
          <p:cNvSpPr/>
          <p:nvPr/>
        </p:nvSpPr>
        <p:spPr>
          <a:xfrm>
            <a:off x="2268360" y="501336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adro de texto 19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4"/>
          <p:cNvGrpSpPr/>
          <p:nvPr/>
        </p:nvGrpSpPr>
        <p:grpSpPr>
          <a:xfrm>
            <a:off x="395280" y="3932280"/>
            <a:ext cx="1800360" cy="1584360"/>
            <a:chOff x="395280" y="3932280"/>
            <a:chExt cx="1800360" cy="1584360"/>
          </a:xfrm>
        </p:grpSpPr>
        <p:sp>
          <p:nvSpPr>
            <p:cNvPr id="177" name="Línea 17"/>
            <p:cNvSpPr/>
            <p:nvPr/>
          </p:nvSpPr>
          <p:spPr>
            <a:xfrm>
              <a:off x="2195640" y="3932280"/>
              <a:ext cx="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Elipse 20"/>
            <p:cNvSpPr/>
            <p:nvPr/>
          </p:nvSpPr>
          <p:spPr>
            <a:xfrm>
              <a:off x="395280" y="4222800"/>
              <a:ext cx="1728720" cy="79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Transcrip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1 CuadroTexto"/>
          <p:cNvSpPr/>
          <p:nvPr/>
        </p:nvSpPr>
        <p:spPr>
          <a:xfrm>
            <a:off x="899280" y="395280"/>
            <a:ext cx="75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 Rounded MT Bold"/>
                <a:ea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lipse 13"/>
          <p:cNvSpPr/>
          <p:nvPr/>
        </p:nvSpPr>
        <p:spPr>
          <a:xfrm>
            <a:off x="536400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8"/>
          <p:cNvGrpSpPr/>
          <p:nvPr/>
        </p:nvGrpSpPr>
        <p:grpSpPr>
          <a:xfrm>
            <a:off x="1395360" y="1603440"/>
            <a:ext cx="6632640" cy="5113440"/>
            <a:chOff x="1395360" y="1603440"/>
            <a:chExt cx="6632640" cy="5113440"/>
          </a:xfrm>
        </p:grpSpPr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1395360" y="1603440"/>
              <a:ext cx="663264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6"/>
            <p:cNvSpPr/>
            <p:nvPr/>
          </p:nvSpPr>
          <p:spPr>
            <a:xfrm>
              <a:off x="2119680" y="4075200"/>
              <a:ext cx="170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Células y tejid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2106360" y="492444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HD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3 CuadroTexto"/>
          <p:cNvSpPr/>
          <p:nvPr/>
        </p:nvSpPr>
        <p:spPr>
          <a:xfrm flipH="1">
            <a:off x="324000" y="7272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ra su almacenamiento, el colesterol se puede esterificar con ácidos gr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206680" y="359244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Oleil-CoA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AT)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inoleil-CoA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1957320" y="189000"/>
            <a:ext cx="5400720" cy="6459480"/>
          </a:xfrm>
          <a:prstGeom prst="rect">
            <a:avLst/>
          </a:prstGeom>
          <a:ln w="0">
            <a:noFill/>
          </a:ln>
        </p:spPr>
      </p:pic>
      <p:sp>
        <p:nvSpPr>
          <p:cNvPr id="189" name="3 CuadroTexto"/>
          <p:cNvSpPr/>
          <p:nvPr/>
        </p:nvSpPr>
        <p:spPr>
          <a:xfrm>
            <a:off x="5154120" y="61437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opreno act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9360" y="484200"/>
            <a:ext cx="858348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1403280" y="1773360"/>
            <a:ext cx="1513080" cy="1873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075280" y="3645000"/>
            <a:ext cx="3529080" cy="3097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58360" y="3816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48960" y="444600"/>
            <a:ext cx="73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esterol: precursor de otros compuesto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13600" y="1143000"/>
            <a:ext cx="59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yente membranas biológicas: fl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ursor de hormonas esteroidales, ács. biliares, vit.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4986360" y="2262240"/>
          <a:ext cx="336564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262240"/>
                    <a:ext cx="3365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5"/>
          <p:cNvGrpSpPr/>
          <p:nvPr/>
        </p:nvGrpSpPr>
        <p:grpSpPr>
          <a:xfrm>
            <a:off x="911160" y="2255760"/>
            <a:ext cx="5032440" cy="4125960"/>
            <a:chOff x="911160" y="2255760"/>
            <a:chExt cx="5032440" cy="4125960"/>
          </a:xfrm>
        </p:grpSpPr>
        <p:pic>
          <p:nvPicPr>
            <p:cNvPr id="195" name="Picture 6" descr=""/>
            <p:cNvPicPr/>
            <p:nvPr/>
          </p:nvPicPr>
          <p:blipFill>
            <a:blip r:embed="rId3"/>
            <a:stretch/>
          </p:blipFill>
          <p:spPr>
            <a:xfrm>
              <a:off x="911160" y="2255760"/>
              <a:ext cx="3727440" cy="41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Line 7"/>
            <p:cNvSpPr/>
            <p:nvPr/>
          </p:nvSpPr>
          <p:spPr>
            <a:xfrm flipH="1" flipV="1">
              <a:off x="4533480" y="2285640"/>
              <a:ext cx="51444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533480" y="3181320"/>
              <a:ext cx="55260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4915080" y="2685960"/>
              <a:ext cx="1028520" cy="476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íntesis de los ácidos biliares, ácido cólico y ácido chenodeoxycholic"/>
          <p:cNvPicPr/>
          <p:nvPr/>
        </p:nvPicPr>
        <p:blipFill>
          <a:blip r:embed="rId1"/>
          <a:stretch/>
        </p:blipFill>
        <p:spPr>
          <a:xfrm>
            <a:off x="1123920" y="836640"/>
            <a:ext cx="704844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6"/>
          <p:cNvGraphicFramePr/>
          <p:nvPr/>
        </p:nvGraphicFramePr>
        <p:xfrm>
          <a:off x="468360" y="5618160"/>
          <a:ext cx="3365280" cy="12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618160"/>
                    <a:ext cx="3365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Group 10"/>
          <p:cNvGrpSpPr/>
          <p:nvPr/>
        </p:nvGrpSpPr>
        <p:grpSpPr>
          <a:xfrm>
            <a:off x="539280" y="1413000"/>
            <a:ext cx="7920360" cy="4968720"/>
            <a:chOff x="539280" y="1413000"/>
            <a:chExt cx="7920360" cy="4968720"/>
          </a:xfrm>
        </p:grpSpPr>
        <p:sp>
          <p:nvSpPr>
            <p:cNvPr id="203" name="Oval 7"/>
            <p:cNvSpPr/>
            <p:nvPr/>
          </p:nvSpPr>
          <p:spPr>
            <a:xfrm>
              <a:off x="1547640" y="5589720"/>
              <a:ext cx="115272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 flipV="1">
              <a:off x="539280" y="1413000"/>
              <a:ext cx="1368360" cy="417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698920" y="5805360"/>
              <a:ext cx="576072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ES Y ACIDOS B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             (Cólico y Quenodesoxico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60958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</a:rPr>
              <a:t>Funciones de los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4a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14a2f"/>
                </a:solidFill>
                <a:latin typeface="Arial"/>
              </a:rPr>
              <a:t>Fuente de reserva energética (Triglice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mponentes de membranas</a:t>
            </a:r>
            <a:r>
              <a:rPr b="1" lang="es-ES" sz="2400" spc="-1" strike="noStrike">
                <a:solidFill>
                  <a:srgbClr val="d14a2f"/>
                </a:solidFill>
                <a:latin typeface="Arial"/>
              </a:rPr>
              <a:t> (Fosfoli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95e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95e27"/>
                </a:solidFill>
                <a:latin typeface="Arial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4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46c2c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d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5d24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76b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76b29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980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98027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d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5d24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0-1"/>
          <p:cNvPicPr/>
          <p:nvPr/>
        </p:nvPicPr>
        <p:blipFill>
          <a:blip r:embed="rId1"/>
          <a:stretch/>
        </p:blipFill>
        <p:spPr>
          <a:xfrm>
            <a:off x="5797440" y="3213000"/>
            <a:ext cx="3095640" cy="21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10-2"/>
          <p:cNvPicPr/>
          <p:nvPr/>
        </p:nvPicPr>
        <p:blipFill>
          <a:blip r:embed="rId2"/>
          <a:srcRect l="0" t="0" r="2630" b="0"/>
          <a:stretch/>
        </p:blipFill>
        <p:spPr>
          <a:xfrm>
            <a:off x="108000" y="3068640"/>
            <a:ext cx="5638680" cy="32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908000" y="44280"/>
            <a:ext cx="53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Fosfo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cc33"/>
                </a:solidFill>
                <a:latin typeface="Arial"/>
              </a:rPr>
              <a:t>(Fosfoglic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  <a:ea typeface="Arial"/>
              </a:rPr>
              <a:t>é</a:t>
            </a:r>
            <a:r>
              <a:rPr b="1" i="1" lang="es-ES_tradnl" sz="2400" spc="-1" strike="noStrike">
                <a:solidFill>
                  <a:srgbClr val="33cc33"/>
                </a:solidFill>
                <a:latin typeface="Arial"/>
              </a:rPr>
              <a:t>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730080" y="1011240"/>
            <a:ext cx="768384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730080" y="1011240"/>
            <a:ext cx="7694640" cy="5524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948200" y="3544920"/>
            <a:ext cx="2714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979640" y="5013360"/>
            <a:ext cx="1368360" cy="287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534960"/>
            <a:ext cx="8089920" cy="6207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360" y="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6C25-BADE-499C-B4F6-DC6389DC78C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 Rectángulo"/>
          <p:cNvSpPr/>
          <p:nvPr/>
        </p:nvSpPr>
        <p:spPr>
          <a:xfrm>
            <a:off x="324000" y="860400"/>
            <a:ext cx="8496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66ff"/>
                </a:solidFill>
                <a:uFillTx/>
                <a:latin typeface="Comic Sans MS"/>
                <a:ea typeface="Arial"/>
              </a:rPr>
              <a:t>Funciones de los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Los fosfolípidos se encuentran presentes principalmente en las membranas biológicas, cumplen funciones vitales en la cél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Regulando la permeabilidad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Interviniendo en la solubilización de compuestos poco p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En el proceso de coagulac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Formando parte de la vaina de mielina de neuronas y de partículas transportadoras de electr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Participando en las vías de señalización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58360" y="14292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152-1548-43E5-9B3D-58ADEDB499F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419640" y="477720"/>
            <a:ext cx="5545080" cy="59756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250920" y="1628640"/>
            <a:ext cx="5184720" cy="2288520"/>
            <a:chOff x="250920" y="1628640"/>
            <a:chExt cx="5184720" cy="2288520"/>
          </a:xfrm>
        </p:grpSpPr>
        <p:sp>
          <p:nvSpPr>
            <p:cNvPr id="72" name="2 CuadroTexto"/>
            <p:cNvSpPr/>
            <p:nvPr/>
          </p:nvSpPr>
          <p:spPr>
            <a:xfrm>
              <a:off x="250920" y="1628640"/>
              <a:ext cx="295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33cc33"/>
                  </a:solidFill>
                  <a:latin typeface="Comic Sans MS"/>
                  <a:ea typeface="Arial"/>
                </a:rPr>
                <a:t>Las enzimas de la síntesis de FL se encuentran insertas en las membranas del 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3132000" y="1844640"/>
              <a:ext cx="2303640" cy="36036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3132000" y="2060640"/>
              <a:ext cx="2160720" cy="86364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RATEGIAS DIFERENTES PARA LA BIOSINTESIS DE FOSFOGLIC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fosfatídico +  CTP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82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414036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416320" y="60660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1239840" y="1189080"/>
            <a:ext cx="6983280" cy="5553000"/>
            <a:chOff x="1239840" y="1189080"/>
            <a:chExt cx="6983280" cy="555300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1241280"/>
              <a:ext cx="69642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1239840" y="1189080"/>
              <a:ext cx="21798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66"/>
                  </a:solidFill>
                  <a:latin typeface="Arial"/>
                </a:rPr>
                <a:t>Estrategia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,2-diacilglicerol es activado con C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4859280" y="1208160"/>
              <a:ext cx="2232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66"/>
                  </a:solidFill>
                  <a:latin typeface="Arial"/>
                </a:rPr>
                <a:t>Estrategia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l grupo polar es activado con C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3495600" y="43498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4898880" y="1035000"/>
            <a:ext cx="3887640" cy="4536720"/>
            <a:chOff x="4898880" y="1035000"/>
            <a:chExt cx="3887640" cy="4536720"/>
          </a:xfrm>
        </p:grpSpPr>
        <p:sp>
          <p:nvSpPr>
            <p:cNvPr id="93" name="Rectangle 8"/>
            <p:cNvSpPr/>
            <p:nvPr/>
          </p:nvSpPr>
          <p:spPr>
            <a:xfrm>
              <a:off x="4898880" y="1035000"/>
              <a:ext cx="3457440" cy="347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690880" y="4436640"/>
              <a:ext cx="3095640" cy="11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3"/>
          <p:cNvSpPr/>
          <p:nvPr/>
        </p:nvSpPr>
        <p:spPr>
          <a:xfrm>
            <a:off x="1790640" y="5643720"/>
            <a:ext cx="22640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j.  Fosfatidil –ser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n bacter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y levad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6232320" y="5670720"/>
            <a:ext cx="248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j. Fosfatidil-Colin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Fosfatidil-Etanol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n animales sup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3 CuadroTexto"/>
          <p:cNvSpPr/>
          <p:nvPr/>
        </p:nvSpPr>
        <p:spPr>
          <a:xfrm>
            <a:off x="3361320" y="3171960"/>
            <a:ext cx="59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4 CuadroTexto"/>
          <p:cNvSpPr/>
          <p:nvPr/>
        </p:nvSpPr>
        <p:spPr>
          <a:xfrm>
            <a:off x="7438320" y="3000240"/>
            <a:ext cx="169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tano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8:40:44Z</dcterms:created>
  <dc:creator>Colossus User</dc:creator>
  <dc:description/>
  <dc:language>en-US</dc:language>
  <cp:lastModifiedBy>Your User Name</cp:lastModifiedBy>
  <dcterms:modified xsi:type="dcterms:W3CDTF">2014-05-29T23:18:26Z</dcterms:modified>
  <cp:revision>32</cp:revision>
  <dc:subject/>
  <dc:title>Funciones de los lípidos</dc:title>
</cp:coreProperties>
</file>